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04A-9286-4BBF-880A-2531CAF4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5F1-7DC6-4881-AEBB-1B15DF40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246-B0CE-4AF3-AE85-46A049BD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CF8-E94C-4A97-82E0-6E68BAC8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80DD-1C32-489F-B15F-70A693A6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D0C5-030F-4084-A15D-3D88D81A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742D-52E8-4C95-9878-A0F59779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CF30-50F3-418E-BF5F-579C5E29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CD9F-E997-4B9E-887B-BC610AB4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B2EA-B6E7-4F7F-9C95-D72F2110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3D56-BB04-4A0B-99C4-05FAFBD0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4EB-9E09-48C4-8873-A5141913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DDE3-FCB2-4AC0-9691-4D6E1653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9530-7E08-48DC-ADEA-E277D6F5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60DF-6F74-4F8B-8F18-07D849BC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0566-2CB6-4348-8A78-9BE3E2D5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DCF5-DA09-4BF7-A473-50059BA7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AC59-59E0-450D-ACFE-2B52DBA6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8CC-133C-4C6A-BF60-D0814D01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31B-F922-45FA-9307-FF84AE66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3E6-1B7E-478D-AC5C-707734B8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8A7-45F6-4A7D-B132-CE20A1BC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624-0402-4265-AA0F-BBDACD0F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C0E-9F93-4695-AEA6-F9D22BE7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0367-7C1A-4C21-8EF0-668E61639BC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3DBC-E5FB-44F8-9323-25A728EB62C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op5online.info/images/halloween/jokermask.jpg&amp;imgrefurl=http://www.squidoo.com/batman-dark-knight-thejoker-adult-costume&amp;usg=__efKLI7tZ5p7kO9MjgNX2XtshP6w=&amp;h=350&amp;w=350&amp;sz=25&amp;hl=en&amp;start=16&amp;tbnid=rXl3NLg0iDjrQM:&amp;tbnh=120&amp;tbnw=120&amp;prev=/images%3Fq%3Dmakeup%2Btroubles%26gbv%3D2%26hl%3Den%26safe%3Dstric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0880" y="533520"/>
            <a:ext cx="8410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intStroke"/>
              </a:rPr>
              <a:t>Makeup safety, its a simple as that!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intStroke"/>
              <a:ea typeface="PaintStroke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8600" y="440640"/>
            <a:ext cx="844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Old English Text MT"/>
              </a:rPr>
              <a:t>Sûreté de maquillage, son aussi simple que cela !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362320"/>
            <a:ext cx="4114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5:16:05Z</dcterms:created>
  <dc:creator> </dc:creator>
  <dc:description/>
  <dc:language>en-US</dc:language>
  <cp:lastModifiedBy> </cp:lastModifiedBy>
  <dcterms:modified xsi:type="dcterms:W3CDTF">2009-09-18T15:06:18Z</dcterms:modified>
  <cp:revision>6</cp:revision>
  <dc:subject/>
  <dc:title>Slide 1</dc:title>
</cp:coreProperties>
</file>